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C37F-9E92-4E59-BD40-C2F351987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903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7643-F875-4B9D-8EA2-D6FD4576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903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168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E974-C8A7-45CD-AEBF-FBD33CAD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1540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44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9036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1540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44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FC99-9150-4F3F-99D4-55179F81C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3394-2E8B-4D6F-8557-BB75E767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8B33-02F0-4A18-B05E-364AEF2D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55C4-BC4F-4C72-B569-62B3C814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8CF1-5F49-4D5C-AEFD-36D87D03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133720" y="228240"/>
            <a:ext cx="63244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D82E-3767-4826-BF78-D73AEF60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8FD3-189D-4512-8574-C2ACF8D8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168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8327-4F45-4D6B-A879-C718FE13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F0F2-1CE1-4CE6-BADA-077F1354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8C76-E458-4FA0-8352-9F0DB10C1575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95600" y="977760"/>
            <a:ext cx="29880" cy="24120"/>
          </a:xfrm>
          <a:custGeom>
            <a:avLst/>
            <a:gdLst/>
            <a:ahLst/>
            <a:rect l="l" t="t" r="r" b="b"/>
            <a:pathLst>
              <a:path w="74" h="61">
                <a:moveTo>
                  <a:pt x="74" y="33"/>
                </a:moveTo>
                <a:lnTo>
                  <a:pt x="74" y="33"/>
                </a:lnTo>
                <a:lnTo>
                  <a:pt x="60" y="0"/>
                </a:lnTo>
                <a:lnTo>
                  <a:pt x="0" y="61"/>
                </a:lnTo>
                <a:lnTo>
                  <a:pt x="30" y="30"/>
                </a:lnTo>
                <a:lnTo>
                  <a:pt x="74" y="3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95600" y="977760"/>
            <a:ext cx="23760" cy="2412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1"/>
                </a:moveTo>
                <a:lnTo>
                  <a:pt x="61" y="0"/>
                </a:lnTo>
                <a:lnTo>
                  <a:pt x="0" y="61"/>
                </a:lnTo>
                <a:lnTo>
                  <a:pt x="2" y="62"/>
                </a:lnTo>
                <a:lnTo>
                  <a:pt x="62" y="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695600" y="977760"/>
            <a:ext cx="23760" cy="24120"/>
          </a:xfrm>
          <a:custGeom>
            <a:avLst/>
            <a:gdLst/>
            <a:ahLst/>
            <a:rect l="l" t="t" r="r" b="b"/>
            <a:pathLst>
              <a:path w="62" h="61">
                <a:moveTo>
                  <a:pt x="0" y="60"/>
                </a:moveTo>
                <a:lnTo>
                  <a:pt x="2" y="61"/>
                </a:lnTo>
                <a:lnTo>
                  <a:pt x="32" y="30"/>
                </a:lnTo>
                <a:lnTo>
                  <a:pt x="62" y="0"/>
                </a:lnTo>
                <a:lnTo>
                  <a:pt x="2" y="61"/>
                </a:lnTo>
                <a:lnTo>
                  <a:pt x="0" y="6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695600" y="988920"/>
            <a:ext cx="29880" cy="12960"/>
          </a:xfrm>
          <a:custGeom>
            <a:avLst/>
            <a:gdLst/>
            <a:ahLst/>
            <a:rect l="l" t="t" r="r" b="b"/>
            <a:pathLst>
              <a:path w="74" h="33">
                <a:moveTo>
                  <a:pt x="0" y="33"/>
                </a:moveTo>
                <a:lnTo>
                  <a:pt x="0" y="33"/>
                </a:lnTo>
                <a:lnTo>
                  <a:pt x="74" y="0"/>
                </a:lnTo>
                <a:lnTo>
                  <a:pt x="30" y="2"/>
                </a:lnTo>
                <a:lnTo>
                  <a:pt x="0" y="3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841200" y="1843200"/>
            <a:ext cx="60480" cy="48960"/>
          </a:xfrm>
          <a:custGeom>
            <a:avLst/>
            <a:gdLst/>
            <a:ahLst/>
            <a:rect l="l" t="t" r="r" b="b"/>
            <a:pathLst>
              <a:path w="76" h="63">
                <a:moveTo>
                  <a:pt x="76" y="34"/>
                </a:moveTo>
                <a:lnTo>
                  <a:pt x="76" y="34"/>
                </a:lnTo>
                <a:lnTo>
                  <a:pt x="62" y="0"/>
                </a:lnTo>
                <a:lnTo>
                  <a:pt x="0" y="63"/>
                </a:lnTo>
                <a:lnTo>
                  <a:pt x="31" y="31"/>
                </a:lnTo>
                <a:lnTo>
                  <a:pt x="76" y="3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2839760" y="1841400"/>
            <a:ext cx="50760" cy="50760"/>
          </a:xfrm>
          <a:custGeom>
            <a:avLst/>
            <a:gdLst/>
            <a:ahLst/>
            <a:rect l="l" t="t" r="r" b="b"/>
            <a:pathLst>
              <a:path w="63" h="64">
                <a:moveTo>
                  <a:pt x="63" y="1"/>
                </a:moveTo>
                <a:lnTo>
                  <a:pt x="62" y="0"/>
                </a:lnTo>
                <a:lnTo>
                  <a:pt x="0" y="62"/>
                </a:lnTo>
                <a:lnTo>
                  <a:pt x="1" y="64"/>
                </a:lnTo>
                <a:lnTo>
                  <a:pt x="63" y="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2839760" y="1843200"/>
            <a:ext cx="50760" cy="48960"/>
          </a:xfrm>
          <a:custGeom>
            <a:avLst/>
            <a:gdLst/>
            <a:ahLst/>
            <a:rect l="l" t="t" r="r" b="b"/>
            <a:pathLst>
              <a:path w="63" h="63">
                <a:moveTo>
                  <a:pt x="0" y="61"/>
                </a:moveTo>
                <a:lnTo>
                  <a:pt x="1" y="63"/>
                </a:lnTo>
                <a:lnTo>
                  <a:pt x="32" y="31"/>
                </a:lnTo>
                <a:lnTo>
                  <a:pt x="63" y="0"/>
                </a:lnTo>
                <a:lnTo>
                  <a:pt x="1" y="63"/>
                </a:lnTo>
                <a:lnTo>
                  <a:pt x="0" y="6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2841200" y="1865160"/>
            <a:ext cx="60480" cy="27000"/>
          </a:xfrm>
          <a:custGeom>
            <a:avLst/>
            <a:gdLst/>
            <a:ahLst/>
            <a:rect l="l" t="t" r="r" b="b"/>
            <a:pathLst>
              <a:path w="76" h="34">
                <a:moveTo>
                  <a:pt x="0" y="34"/>
                </a:moveTo>
                <a:lnTo>
                  <a:pt x="0" y="34"/>
                </a:lnTo>
                <a:lnTo>
                  <a:pt x="76" y="0"/>
                </a:lnTo>
                <a:lnTo>
                  <a:pt x="31" y="2"/>
                </a:lnTo>
                <a:lnTo>
                  <a:pt x="0" y="3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aboratorio de PRC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4A77-0087-4B79-883C-B4C34649DC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l primer programa (II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algan de Turbo Pasc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uelvan a entrar en Turbo Pascal y recuperen el mismo programa que acaban de escrib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leccionenlo de la lista de programas o escriban su nombre debajo de Name. Hagan click en O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C031-93D3-4238-9A48-76DCB5F27E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l primer programa (IV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ilen el programa hasta que no de err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da errores, avísen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bo Pascal les dice “press any key”, así que opriman cualquier tec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1CB5-FCCE-4BEB-9EC4-397972FC69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l primer programa (V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cuten el progra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salida es desplegada momentáneamente en la pantalla pero Turbo Pascal regresa inmediatamente a la pantalla de ejec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recuperar la pantalla de salida, opriman Alt+F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F454-780D-424D-8318-2CCA89CC2E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l primer programa (V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cuten varias veces el program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ren lo que aparece en la pantalla de ejecución, oprimiendo Alt+F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DAE2-20BF-43AB-B1A3-C51247EE5B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¿Qué hemos aprendido del primer programa? (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y dos pantall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pantalla de edición (se escribe el progra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pantalla de ejecución (se ejecuta el program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ndo se acaba de ejecutar un progr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urbo Pascal regresa inmediatamente a la pantalla de ed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ra recuperar la pantalla de ejecución, Alt+F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F989-EE8B-4A1B-BADF-5187B786B9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00040" y="228240"/>
            <a:ext cx="5257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¿Qué hemos aprendido del primer programa? (I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62520" y="21337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compilamos puede dar errores: errores de compil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ta que no se corrijan no se puede ejecut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y que corregirlos y compilar de nue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600200"/>
            <a:ext cx="2362320" cy="1143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grama e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ASC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26080" y="3809880"/>
            <a:ext cx="2364480" cy="1143000"/>
            <a:chOff x="226080" y="3809880"/>
            <a:chExt cx="2364480" cy="1143000"/>
          </a:xfrm>
        </p:grpSpPr>
        <p:sp>
          <p:nvSpPr>
            <p:cNvPr id="107" name=""/>
            <p:cNvSpPr/>
            <p:nvPr/>
          </p:nvSpPr>
          <p:spPr>
            <a:xfrm>
              <a:off x="228600" y="3809880"/>
              <a:ext cx="2361960" cy="1143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6080" y="3962520"/>
              <a:ext cx="2343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Programa e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lenguaje máquina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371600" y="2743200"/>
            <a:ext cx="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2440" y="304812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mpil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152280"/>
            <a:ext cx="2743200" cy="7621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specific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1400" y="525780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jecu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49528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019920"/>
            <a:ext cx="2743200" cy="761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sultado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914400"/>
            <a:ext cx="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2800" y="99072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gram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4419720"/>
            <a:ext cx="3045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895480" y="2133720"/>
            <a:ext cx="0" cy="22860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590920" y="2133720"/>
            <a:ext cx="30456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44680" y="2860560"/>
            <a:ext cx="16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rrores d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mpil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40A5-96D4-477F-A560-77DC7FA7D2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egundo programa (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uesto_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sin_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con_IVA: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sin_IVA:=3000;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=0.13*precio_sin_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con_IVA:=precio_sin_IVA+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l precio con IVA de este producto es ‘, precio_con_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B18C-16FA-456D-9B82-1CD3D6DBC8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egundo programa (I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íbanlo, grábenlo, compilenlo y ejecuten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Qué es lo que produce el programa por pantall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gunta: ¿Cómo podríamos modificarlo para que sacara el IVA de 400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0EB9-F12B-416B-AAE7-2AA71A9B5E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egundo programa (II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uesto_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sin_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con_IVA: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sin_IVA:=4000;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=0.13*precio_sin_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con_IVA:=precio_sin_IVA+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l precio con IVA de este producto es ‘, precio_con_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419720" y="3048120"/>
            <a:ext cx="914400" cy="1295280"/>
          </a:xfrm>
          <a:prstGeom prst="line">
            <a:avLst/>
          </a:prstGeom>
          <a:ln w="127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047B-5678-4EBF-802A-E99DBCA647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ercer programa (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uesto_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sin_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con_IVA: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scribe el precio con IVA ‘);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precio_con_IV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=0.13*precio_sin_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con_IVA:=precio_sin_IVA+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l precio con IVA de este producto es ‘, precio_con_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213372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ODIFIQUEN EL SEGUNDO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OGRAMA Y GRABENLO C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TRO NOMBR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1179-0901-41F9-B84C-74519F420A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l compilador de Turbo Pascal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286000"/>
            <a:ext cx="2362320" cy="1143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grama e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ASC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426480" y="4495680"/>
            <a:ext cx="2364480" cy="1143000"/>
            <a:chOff x="3426480" y="4495680"/>
            <a:chExt cx="2364480" cy="1143000"/>
          </a:xfrm>
        </p:grpSpPr>
        <p:sp>
          <p:nvSpPr>
            <p:cNvPr id="53" name=""/>
            <p:cNvSpPr/>
            <p:nvPr/>
          </p:nvSpPr>
          <p:spPr>
            <a:xfrm>
              <a:off x="3429000" y="4495680"/>
              <a:ext cx="2361960" cy="1143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26480" y="4648320"/>
              <a:ext cx="2343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Programa e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lenguaje máquina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572000" y="3429000"/>
            <a:ext cx="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32840" y="373392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mpil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1280" y="1793880"/>
            <a:ext cx="765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a computadora sólo entiende un lenguaje de programación: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l lenguaje máquin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8200" y="5638680"/>
            <a:ext cx="797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os otros lenguajes de programación deben traducirse a código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áquina para que la computadora lo entiend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 esta traducción se le llama COMPILACIÓ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08F0-13DB-4066-9C5F-3D1F6B61B3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ercer programa (I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pilenlo y ejecuten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Cuál parece el más conveniente: el segundo programa o el tercer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Por qué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orren el primer “write”. ¿Qué pas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Cuál es la función del primer wri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9625-19EB-44A6-A428-8FF0CFF966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Modifica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quen los dos últimos programas para que al principio escriba que es lo que hace el programa (con un “writeln”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rtir de ahora, lo haremos siempre así, aunque yo no lo haga en la pizar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B16F-04F1-4D12-813C-3D39E7BE9F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uarto programa (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product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or1, factor2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scribe el primer factor ‘); readln(factor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scribe el segundo factor ‘); readln(factor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l producto de ‘, factor1, ‘ por ‘, factor2, ‘ es ‘, factor1*factor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8A66-34C8-45B3-85C7-0C59C6E52D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uarto programa (I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ábenlo, compilenlo y ejecutenlo varias veces para ver cuál es su efe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12DF-E391-4EA3-B9BB-F287EFDAD6D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81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rrores de programación (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rrores de compilación (errores de sintaxi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n los que señala el compil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producen cuando se viola la sintaxis de Pas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mplo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rite ‘Hola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rite(“a”); a=6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n los menos peligrosos, ya que Turbo Pascal te avisa y no te deja ejecutar el programa si no los corri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7E02-A062-4461-B787-8CE5D1FC7B7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629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rrores de programación (I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rrores de ejecu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n los que se producen cuando se ejecuta el progra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precio_con_IVA es una variable entera y cuando se ejecuta read(precio_con_IVA) se le pone 4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ndo se producen, se detiene el programa y se genera un mensaje de err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04AC-AF7B-45C9-9A1A-ADF5C4160DF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7010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rrores de programación (II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rores lógicos: No se viola ninguna regla del Pascal, pero el programa no hace lo que queremos que ha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emplo -&gt; promedio:=b+c/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primero se divide por dos y después se suma, no da el valor corre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 los más peligrosos, ya que Turbo Pascal no te avisa. Ejemplo: problema del año 2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EB36-44D9-4D04-B8BF-E22636B77F2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ir un programa que pida por pantalla un precio y un tanto por cien y que produzca el resultado de aplicar al numero el tanto por ci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048C-2771-48C3-81D1-2324C715ABB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porcentaj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, TantoPorCiento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scribe el precio ‘); readln(preci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scribe el tanto por ciento ‘); readln(TantoPorCient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l resultado de aplicar ‘, TantoPorCiento, ‘% a ‘, precio, ‘es ‘, precio*TantoPorCiento/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A0D0-2CBF-47E3-B85B-1ED53A37AD3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pasaría si en el readln(precio) yo pusiera readln(prec)? ¿Qué clase de error serí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pasaría si yo le pido el 13.5%? ¿Qué clase de error serí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pasaría si en la última línea yo pusiera precio*TantoPorCiento/35? ¿Turbo Pascal avisaría? ¿Qué clase de error serí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BE9D-8142-46A2-9E89-82911F5F8B1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33720" y="1600200"/>
            <a:ext cx="2361960" cy="1143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grama e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ASC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131200" y="3809880"/>
            <a:ext cx="2364480" cy="1143000"/>
            <a:chOff x="2131200" y="3809880"/>
            <a:chExt cx="2364480" cy="1143000"/>
          </a:xfrm>
        </p:grpSpPr>
        <p:sp>
          <p:nvSpPr>
            <p:cNvPr id="61" name=""/>
            <p:cNvSpPr/>
            <p:nvPr/>
          </p:nvSpPr>
          <p:spPr>
            <a:xfrm>
              <a:off x="2133720" y="3809880"/>
              <a:ext cx="2361960" cy="1143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31200" y="3962520"/>
              <a:ext cx="2343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Programa e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lenguaje máquina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276720" y="2743200"/>
            <a:ext cx="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37200" y="304812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mpil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152280"/>
            <a:ext cx="2743200" cy="7621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specific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6520" y="525780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jecu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49528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5120" y="6019920"/>
            <a:ext cx="2743200" cy="761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sultado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914400"/>
            <a:ext cx="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37920" y="99072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gram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74040" y="30492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grama que escriba “Hola”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99160" y="1447920"/>
            <a:ext cx="242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program hola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write(‘hola’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62520" y="369900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01000101 1100110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10001110  0010110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             </a:t>
            </a: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et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5715000"/>
            <a:ext cx="1752480" cy="91440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14440" y="5756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l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00" y="2743200"/>
            <a:ext cx="228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iclo de vida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 un program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n Pasc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3A1D-DEF3-44C8-A0B1-61E3FEC75D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a que pide dos números y los ecribe en forma inver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A1D5-266D-4C6C-8993-0E747C61061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invers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1, numero2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Escribe el primer número ‘); readln(numero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Escribe el primer número ‘); readln(numero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A la inversa son: ‘, numero2, ‘,’, numero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836B-9F29-4561-B588-75D1C773A58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istema Turbo Pascal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rve para llevar a cabo todas las tareas especificadas anterior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ne un editor de texto para progra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ne un compilador para compi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ne un ejecutor de código máquina para ejecutar el progr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ne todo lo necesario para escribir y hacer funcionar un programa en Pasc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4CED-752B-4DBA-870B-C397F30377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antalla principal de Turbo Pascal 7.0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5867280" cy="4400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781320" y="228600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arra de menú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248520" y="259092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80960" y="396252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Área de edi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248520" y="426708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9271-9698-4A4D-8433-47DAAE491D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antalla principal de Turbo Pascal 7.0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el área de edición es donde escribimos el progra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la barra de menús, hay una serie de menús desplegables que contienen las acciones que pueden hacerse sobre el progr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ar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ecutar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barlo en dis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perarlo desde disco y ot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A2F9-BC6F-437A-908F-C08F0ABDAE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cciones principales de los menús desplegabl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abarlo en disco: File Save o F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eerlo de disco: File Open o F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pilarlo: Compile Compile o Alt+F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cutarlo: Run Run o Ctrl+F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si no está compilado se compilará automáticame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alir de Turbo Pascal: File Exit o Alt+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C4B9-6CD0-4FAA-AD6E-962EB1A56F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l primer programa (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criban en el área de edi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salud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Hola, mi amo y señor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76A7-C5FF-44F3-8725-0D08F9A9F9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l primer programa (I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ben el progra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le una pantalla que les pregunta el nombre del progra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an el nombre y pulsen 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os los programas en Pascal deberían tener la extensión .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673D-EB89-413B-BDCD-EBF55292AF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7T00:25:30Z</dcterms:created>
  <dc:creator>BLANCA CECILIA</dc:creator>
  <dc:description/>
  <dc:language>en-US</dc:language>
  <cp:lastModifiedBy> </cp:lastModifiedBy>
  <dcterms:modified xsi:type="dcterms:W3CDTF">2008-02-10T09:34:11Z</dcterms:modified>
  <cp:revision>38</cp:revision>
  <dc:subject/>
  <dc:title>Sin título de diapositiva</dc:title>
</cp:coreProperties>
</file>